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8FF-4A2F-4063-A557-FEB34716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B64-5255-4158-A36A-AC6F5941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FF3-43CD-47B2-B1DF-4FA5877E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118-55B7-4E8B-963F-14CCE086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A04C-C885-4004-85AA-686EB3C8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4837-D2E5-4F94-BC1D-23AFF0C4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0FFD6-08B6-4982-AE5F-D5829F5C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AFFE-A0A7-433B-923D-025D500B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941D-9BED-4F0E-B104-47AB9A42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0BFB-5BC1-45B9-B59F-238DB9CD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B891-243E-4C93-BE58-2E7CE680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E4B-1641-4A83-B8EF-1CC80A25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5141-38D7-4AC9-B239-9B5AB31C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ADBC-6F88-4881-A973-D9E2B4A5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34E6-0FB4-426B-8950-BB713F1B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7034-51B0-4046-A04C-F2F0031C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F046-5DD9-41A5-A53B-113D0840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408DF-B04D-40B0-8A85-EAB3789D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4354D-848A-4148-AE17-92CF28E25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8C6228-14F2-45FA-B0FC-61DC0A80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31FE50-755F-4383-B137-D7D6279E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5BE34-F460-428D-B79E-3589C612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187-B843-416F-9F17-1EF09CB4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A240D-776C-4E48-8D88-3F1245D7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E6D8D-D1F8-4711-8678-A9B9A87D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75D68E-C3DF-4591-900D-0C380811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E4446E-7EA7-4E0A-8245-A3B8812D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72DCF-8A70-4990-8127-B00B0F71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39970-7C6E-49A3-AC00-E32F5CA5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B001F-82B0-4775-85D1-A32C1C95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B08-2558-4382-8933-373EE991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804-59DD-4A68-9809-C245EB6B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DB8-5133-444D-855E-01ABFAC8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09D-3447-461C-92ED-66F151B2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8B62-11D9-410F-A102-140FBB75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B16-D23F-4921-BB0F-BAAECF75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8A5D-F6C2-41A6-A7B6-3F4A4AE1E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4087-72E2-460F-AD8E-190C5D5D12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D0B1-3F4E-472C-A6F8-337FE7CC9A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79640" y="496800"/>
            <a:ext cx="5545080" cy="792360"/>
          </a:xfrm>
          <a:custGeom>
            <a:avLst/>
            <a:gdLst>
              <a:gd name="textAreaLeft" fmla="*/ 93240 w 5545080"/>
              <a:gd name="textAreaRight" fmla="*/ 5451840 w 5545080"/>
              <a:gd name="textAreaTop" fmla="*/ 93240 h 792360"/>
              <a:gd name="textAreaBottom" fmla="*/ 699120 h 792360"/>
            </a:gdLst>
            <a:ahLst/>
            <a:rect l="textAreaLeft" t="textAreaTop" r="textAreaRight" b="textAreaBottom"/>
            <a:pathLst>
              <a:path w="15110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7502" y="21600"/>
                </a:lnTo>
                <a:arcTo wR="3600" hR="3600" stAng="10800000" swAng="5400000"/>
                <a:lnTo>
                  <a:pt x="151102" y="3600"/>
                </a:lnTo>
                <a:arcTo wR="3600" hR="3600" stAng="5400000" swAng="5400000"/>
                <a:close/>
              </a:path>
            </a:pathLst>
          </a:custGeom>
          <a:solidFill>
            <a:srgbClr val="ffff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47628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دروس في الرياض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16000" y="1700280"/>
            <a:ext cx="7559640" cy="4176720"/>
          </a:xfrm>
          <a:prstGeom prst="flowChartMultidocumen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177336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  <a:cs typeface="Traditional Arabic"/>
              </a:rPr>
              <a:t>ضرب كثيرات الحدود – ثاني متوسط – ف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Traditional Arab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2565360"/>
            <a:ext cx="698508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كتابة وتنسيق / محمد عبدالله السي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cs typeface="Traditional Arabic"/>
              </a:rPr>
              <a:t>مدرسة ابن عثيمين المتوسطة بمحافظة الزلف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8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/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1429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  <a:ea typeface="Traditional Arabic"/>
              </a:rPr>
              <a:t> ه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7600" y="917640"/>
            <a:ext cx="874872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100080"/>
            <a:ext cx="4103640" cy="792000"/>
          </a:xfrm>
          <a:custGeom>
            <a:avLst/>
            <a:gdLst>
              <a:gd name="textAreaLeft" fmla="*/ 93240 w 4103640"/>
              <a:gd name="textAreaRight" fmla="*/ 4010400 w 4103640"/>
              <a:gd name="textAreaTop" fmla="*/ 93240 h 792000"/>
              <a:gd name="textAreaBottom" fmla="*/ 698760 h 792000"/>
            </a:gdLst>
            <a:ahLst/>
            <a:rect l="textAreaLeft" t="textAreaTop" r="textAreaRight" b="textAreaBottom"/>
            <a:pathLst>
              <a:path w="1118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08276" y="21600"/>
                </a:lnTo>
                <a:arcTo wR="3600" hR="3600" stAng="10800000" swAng="5400000"/>
                <a:lnTo>
                  <a:pt x="11187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40000" y="104760"/>
            <a:ext cx="446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ضرب كثيرات ال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16400" y="84312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لاً : ضرب وحيدات ال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6680" y="1576440"/>
            <a:ext cx="8748720" cy="213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4840" y="4361040"/>
            <a:ext cx="8748720" cy="2496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5760" y="3692520"/>
            <a:ext cx="87692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-324000" y="1700280"/>
            <a:ext cx="9064800" cy="28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عند ضرب وحيدات الحد نضرب المعاملات معا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والرموز معاً ولا ننسى أنه في حالة ضر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6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الرموز المتشابهة نجمع الأس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367668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50760" y="361332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14800" y="4508640"/>
            <a:ext cx="37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س ×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1720" y="516888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-ذ ا@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× 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28880" y="450216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95360" y="45291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× س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7680" y="4570560"/>
            <a:ext cx="16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11640" y="594036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ذ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48080" y="5940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6280" y="5992920"/>
            <a:ext cx="24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-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96720" y="2533680"/>
            <a:ext cx="8496360" cy="221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1400"/>
            <a:ext cx="8496360" cy="245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22480" y="25527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 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08000" y="20952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ب × -ا ب@ × ذا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83360" y="83664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92440" y="868320"/>
            <a:ext cx="316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× ا × ا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7360" y="890640"/>
            <a:ext cx="31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×(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× ب@× ب@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380360" y="149544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8644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46880" y="1484280"/>
            <a:ext cx="64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16360" y="32130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#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 @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× $؛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82760" y="3254400"/>
            <a:ext cx="395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×  ا × ا#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373800" y="394344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^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319880" y="3933720"/>
            <a:ext cx="13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4743360"/>
            <a:ext cx="849636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4869000"/>
            <a:ext cx="66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ج × -ذا@ب@ × ذج@ب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5805360"/>
            <a:ext cx="20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-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5805360"/>
            <a:ext cx="7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72320" y="58388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 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9800" y="580536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ج 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23840" y="4724280"/>
            <a:ext cx="8675640" cy="213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200" y="2154240"/>
            <a:ext cx="8675640" cy="1419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81612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24000" y="41400"/>
            <a:ext cx="4680000" cy="765000"/>
          </a:xfrm>
          <a:custGeom>
            <a:avLst/>
            <a:gdLst>
              <a:gd name="textAreaLeft" fmla="*/ 90000 w 4680000"/>
              <a:gd name="textAreaRight" fmla="*/ 4590000 w 4680000"/>
              <a:gd name="textAreaTop" fmla="*/ 90000 h 765000"/>
              <a:gd name="textAreaBottom" fmla="*/ 675000 h 765000"/>
            </a:gdLst>
            <a:ahLst/>
            <a:rect l="textAreaLeft" t="textAreaTop" r="textAreaRight" b="textAreaBottom"/>
            <a:pathLst>
              <a:path w="13208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28489" y="21600"/>
                </a:lnTo>
                <a:arcTo wR="3600" hR="3600" stAng="10800000" swAng="5400000"/>
                <a:lnTo>
                  <a:pt x="13208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55d0e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876320" y="745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82960" y="81612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~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أكمل مباشرة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133720"/>
            <a:ext cx="770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ب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الضرب في أبسط صو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6280" y="1484280"/>
            <a:ext cx="86756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2360" y="7858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7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1200" y="1433520"/>
            <a:ext cx="35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ذ~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× - ذب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1444680"/>
            <a:ext cx="22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 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-61920" y="79524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0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س#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55520" y="5467320"/>
            <a:ext cx="34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ب × ب@ × ب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3583080"/>
            <a:ext cx="1871640" cy="1141200"/>
          </a:xfrm>
          <a:prstGeom prst="downArrowCallout">
            <a:avLst>
              <a:gd name="adj1" fmla="val 41005"/>
              <a:gd name="adj2" fmla="val 41002"/>
              <a:gd name="adj3" fmla="val 16667"/>
              <a:gd name="adj4" fmla="val 66667"/>
            </a:avLst>
          </a:prstGeom>
          <a:gradFill rotWithShape="0">
            <a:gsLst>
              <a:gs pos="0">
                <a:srgbClr val="4af85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583080"/>
            <a:ext cx="150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83000" y="5445000"/>
            <a:ext cx="20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× {ا@ × ا}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4000" y="5424480"/>
            <a:ext cx="34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 { 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×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98800" y="480708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86440" y="603396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43560" y="6137280"/>
            <a:ext cx="574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49800" y="6095880"/>
            <a:ext cx="129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46240" y="2811600"/>
            <a:ext cx="525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#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@ب × { (؛(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!؛ ا ب@ }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1062000"/>
            <a:ext cx="9144000" cy="208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76360" y="115920"/>
            <a:ext cx="6408720" cy="93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208160" y="1364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ضرب وحيدة حد في كثيرة حد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14560"/>
            <a:ext cx="8747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عند ضرب وحيدة حد في كثيرة حدود نستخد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خاصية توزيع الضرب على الجمع كما سي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440" y="314172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451640" y="31608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مثل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50760" y="3076560"/>
            <a:ext cx="665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وجد حاصل ضرب ما يلي :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843280" y="3890880"/>
            <a:ext cx="56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32320" y="467352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661000"/>
            <a:ext cx="2087280" cy="1197000"/>
          </a:xfrm>
          <a:prstGeom prst="downArrowCallout">
            <a:avLst>
              <a:gd name="adj1" fmla="val 43598"/>
              <a:gd name="adj2" fmla="val 43594"/>
              <a:gd name="adj3" fmla="val 16667"/>
              <a:gd name="adj4" fmla="val 6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0720" y="5734080"/>
            <a:ext cx="201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الح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55d0ed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82440" y="-27000"/>
            <a:ext cx="895536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54936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~ ذ س@{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 - ذ س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6720" y="404640"/>
            <a:ext cx="1008000" cy="28764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16480" y="404640"/>
            <a:ext cx="2232000" cy="29700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67280" y="0"/>
            <a:ext cx="3457440" cy="692280"/>
          </a:xfrm>
          <a:custGeom>
            <a:avLst/>
            <a:gdLst/>
            <a:ahLst/>
            <a:rect l="l" t="t" r="r" b="b"/>
            <a:pathLst>
              <a:path w="2207" h="370">
                <a:moveTo>
                  <a:pt x="2207" y="345"/>
                </a:moveTo>
                <a:cubicBezTo>
                  <a:pt x="2122" y="294"/>
                  <a:pt x="1894" y="102"/>
                  <a:pt x="1698" y="51"/>
                </a:cubicBezTo>
                <a:cubicBezTo>
                  <a:pt x="1502" y="0"/>
                  <a:pt x="1238" y="24"/>
                  <a:pt x="1028" y="37"/>
                </a:cubicBezTo>
                <a:cubicBezTo>
                  <a:pt x="818" y="50"/>
                  <a:pt x="610" y="76"/>
                  <a:pt x="439" y="131"/>
                </a:cubicBezTo>
                <a:cubicBezTo>
                  <a:pt x="268" y="186"/>
                  <a:pt x="91" y="320"/>
                  <a:pt x="0" y="3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964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={ذ س@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}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43320" y="1206360"/>
            <a:ext cx="302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ذ س 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7080" y="1238400"/>
            <a:ext cx="263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{ذ س@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1803240"/>
            <a:ext cx="23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10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97440" y="1803240"/>
            <a:ext cx="1726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773360"/>
            <a:ext cx="172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6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س@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7080" y="2492280"/>
            <a:ext cx="895500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2905200"/>
            <a:ext cx="500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ذ~ ا@ { ا 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93080" y="2739960"/>
            <a:ext cx="792000" cy="216000"/>
          </a:xfrm>
          <a:custGeom>
            <a:avLst/>
            <a:gdLst/>
            <a:ahLst/>
            <a:rect l="l" t="t" r="r" b="b"/>
            <a:pathLst>
              <a:path w="635" h="98">
                <a:moveTo>
                  <a:pt x="635" y="98"/>
                </a:moveTo>
                <a:cubicBezTo>
                  <a:pt x="602" y="86"/>
                  <a:pt x="497" y="40"/>
                  <a:pt x="435" y="26"/>
                </a:cubicBezTo>
                <a:cubicBezTo>
                  <a:pt x="373" y="12"/>
                  <a:pt x="333" y="0"/>
                  <a:pt x="261" y="12"/>
                </a:cubicBezTo>
                <a:cubicBezTo>
                  <a:pt x="189" y="24"/>
                  <a:pt x="54" y="80"/>
                  <a:pt x="0" y="9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2678040"/>
            <a:ext cx="1872000" cy="360360"/>
          </a:xfrm>
          <a:custGeom>
            <a:avLst/>
            <a:gdLst/>
            <a:ahLst/>
            <a:rect l="l" t="t" r="r" b="b"/>
            <a:pathLst>
              <a:path w="1406" h="321">
                <a:moveTo>
                  <a:pt x="1406" y="321"/>
                </a:moveTo>
                <a:cubicBezTo>
                  <a:pt x="1384" y="285"/>
                  <a:pt x="1319" y="158"/>
                  <a:pt x="1259" y="107"/>
                </a:cubicBezTo>
                <a:cubicBezTo>
                  <a:pt x="1199" y="56"/>
                  <a:pt x="1130" y="26"/>
                  <a:pt x="1045" y="13"/>
                </a:cubicBezTo>
                <a:cubicBezTo>
                  <a:pt x="960" y="0"/>
                  <a:pt x="857" y="8"/>
                  <a:pt x="750" y="26"/>
                </a:cubicBezTo>
                <a:cubicBezTo>
                  <a:pt x="643" y="44"/>
                  <a:pt x="527" y="78"/>
                  <a:pt x="402" y="120"/>
                </a:cubicBezTo>
                <a:cubicBezTo>
                  <a:pt x="277" y="162"/>
                  <a:pt x="84" y="248"/>
                  <a:pt x="0" y="2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43640" y="3573360"/>
            <a:ext cx="234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= {ا@ × ا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32160" y="3571920"/>
            <a:ext cx="262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- {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@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9800" y="2519280"/>
            <a:ext cx="2808360" cy="478080"/>
          </a:xfrm>
          <a:custGeom>
            <a:avLst/>
            <a:gdLst/>
            <a:ahLst/>
            <a:rect l="l" t="t" r="r" b="b"/>
            <a:pathLst>
              <a:path w="1769" h="301">
                <a:moveTo>
                  <a:pt x="1769" y="301"/>
                </a:moveTo>
                <a:cubicBezTo>
                  <a:pt x="1722" y="259"/>
                  <a:pt x="1604" y="94"/>
                  <a:pt x="1485" y="47"/>
                </a:cubicBezTo>
                <a:cubicBezTo>
                  <a:pt x="1366" y="0"/>
                  <a:pt x="1201" y="16"/>
                  <a:pt x="1056" y="20"/>
                </a:cubicBezTo>
                <a:cubicBezTo>
                  <a:pt x="911" y="24"/>
                  <a:pt x="746" y="47"/>
                  <a:pt x="614" y="74"/>
                </a:cubicBezTo>
                <a:cubicBezTo>
                  <a:pt x="482" y="101"/>
                  <a:pt x="368" y="143"/>
                  <a:pt x="266" y="181"/>
                </a:cubicBezTo>
                <a:cubicBezTo>
                  <a:pt x="164" y="219"/>
                  <a:pt x="55" y="276"/>
                  <a:pt x="0" y="30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258920" y="3613320"/>
            <a:ext cx="304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{ ا@ ×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#}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96360" y="4251240"/>
            <a:ext cx="14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 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ا#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68720" y="4221000"/>
            <a:ext cx="18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–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3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$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38520" y="425124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l-KsorZulfiMath"/>
              </a:rPr>
              <a:t> +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5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ا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5157720"/>
            <a:ext cx="7777440" cy="1700280"/>
          </a:xfrm>
          <a:prstGeom prst="flowChartMultidocument">
            <a:avLst/>
          </a:prstGeom>
          <a:gradFill rotWithShape="0">
            <a:gsLst>
              <a:gs pos="0">
                <a:srgbClr val="f250f2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8000" y="53229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ل تدريب 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l-KsorZulfiMath"/>
              </a:rPr>
              <a:t>ذ~ </a:t>
            </a:r>
            <a:r>
              <a:rPr b="1" lang="hi-IN" sz="4400" spc="-1" strike="noStrike">
                <a:solidFill>
                  <a:srgbClr val="000000"/>
                </a:solidFill>
                <a:latin typeface="Arial"/>
                <a:cs typeface="Arabic Transparent"/>
              </a:rPr>
              <a:t>صفحة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abic Transparent"/>
              </a:rPr>
              <a:t>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1880" y="5927760"/>
            <a:ext cx="50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وإلى اللقاء محمد السي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2:39:12Z</dcterms:created>
  <dc:creator>user</dc:creator>
  <dc:description/>
  <dc:language>en-US</dc:language>
  <cp:lastModifiedBy>Windows XP</cp:lastModifiedBy>
  <dcterms:modified xsi:type="dcterms:W3CDTF">2007-06-16T21:52:51Z</dcterms:modified>
  <cp:revision>7</cp:revision>
  <dc:subject/>
  <dc:title>الشريحة 1</dc:title>
</cp:coreProperties>
</file>